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EDF6-BC80-4004-A90E-37D89DC5B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F5F2-97FF-4759-A244-01405D4B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BAA3-675B-46D4-BF4C-D9AAB6A6F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47DE-7C81-4055-9151-3AF2A7F69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8E60-4864-4511-A879-732D791AF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AD0B-FBC3-4B8B-BD31-C31108AE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6935-E4D6-4FD0-842F-A1C00EA5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3AA6-C40B-4540-AF0C-69978873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2D93-857A-4FDC-810A-8D9BC9B7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65CF-728F-409D-A899-E12869CA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24F9-AAAE-4909-92C7-7FE303B0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4FBD-0676-4E73-91E3-BBF7E20C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17BF-0582-43AE-AE8F-D9A1DB59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2AC4-697C-48CF-BD1E-BC66FEE1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BABE-C4B6-4E22-85C2-2DEF02D5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DF46-CADD-45F2-AE5E-B5B262747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DA8F-7788-44F8-82E0-8F8B4526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65C2D-1E20-4DE4-A98A-AB238C381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B66C6-0A30-4A32-809A-69495662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5ACCC-EE19-472C-9006-45F88CBB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245B2-BF68-4D0A-98AD-67ED9E80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9BC57-C1BF-4CE3-B352-E4CFED64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DC20-08F0-44A7-AB42-40D4E0A9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4D0ED-7679-4620-9B09-839D20AE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84759-4821-457D-9F4B-D8934846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DCD6F-8E48-421B-9CFB-93DB1837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78F51-1A54-4C8A-9622-FC4E835C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FAE98-6D06-4490-85B9-8F898EAA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D3A45-0302-4B5E-8C1C-0B4001534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A8BBF-8F20-4E2C-A9E5-CBFBFB546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4EE37-FB25-40B4-B094-DDC8677BF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98606-023E-4D23-8AC7-E7F3CC96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E366E-B8EA-4BBF-9C1C-689E49C5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B704-5E42-4800-A0E3-CA5D57BA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CD7DF-11FD-47C9-B9B4-BF2CF48E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E11B9-DF07-4945-B710-8D1C9A23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D1371-1E98-4941-88E6-E5622F58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4286B-FB89-42FE-A3F5-67B69CCA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7337D-4448-4602-9805-7C3075C5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E7696-F884-4D60-A86B-5379ED99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A0829-7D25-4499-B7E1-5995479D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42364-6986-4AA7-9917-12D830C4A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0B913-1B77-4DCC-9541-AACEBD905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6930C-8E7A-426E-9D1E-31509BDEF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4469-4F24-499B-A1B8-557E95BA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38BA8-08C4-4399-8865-AAB3E0D1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A06AB-30DF-48CF-A95A-A086844A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E65B8-BDDF-4A70-9B70-E1F59014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1176C-D5F8-42DA-8507-A1914A1A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F553D-9273-499D-B810-46EEC758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236A0-7BC0-487F-AFBE-CBC84CA6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B7C83-5F78-4C96-B3FF-4039AE85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457B8-0209-4F35-9D99-C4F8FB32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D28C8-CB49-4F1A-8A43-416BC4CB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E282F-6DF5-4893-813A-A2B298F2F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8489-2804-4D5C-AF16-5E1AEA29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A7880-8FFA-4DB4-AB35-73076C5D1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089A6-53C1-4A93-8369-FFCBEF821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E7D7A-5A9F-495B-9065-C7FA149F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A3ACC-A346-4AD7-B66A-1E0EA15E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DC4A5-0C68-4A00-9B23-E68F8401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25CD7-0F57-4F31-84CD-6BDF1296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69734-C966-429D-ABBD-406C7CC6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83567-5859-4F92-8903-2752734A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E9C0D-9935-4697-82A0-56AA93BC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2F42C-7701-4829-AFBD-8E3D2934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190C-0437-4CB3-BDC5-C6450EBE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A4C07-14B4-45B7-AAD1-04265662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5C10D-277A-4034-9F39-03203A7AF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69CD6-6595-4015-ADB5-1F3D7028A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6BE6-41D9-4FD2-AEC9-E05E8F56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A00E-4248-4C5A-B855-27C7A323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6186-794C-4306-B773-221BF8FB178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FA71-13D9-4A7A-A62F-1B6D1F8954B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0873-C2BB-46E8-951D-DF02E2D710E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BBFE-B2DC-4D6D-B57A-D597AB181D9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51D4-EEF8-4D33-825B-191705E203A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CB11-B38C-46A5-8C24-EE07B901813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Урок русского языка в 7 класс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WordArt 4"/>
          <p:cNvSpPr txBox="1"/>
          <p:nvPr/>
        </p:nvSpPr>
        <p:spPr>
          <a:xfrm>
            <a:off x="1295280" y="1295280"/>
            <a:ext cx="75726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Правописание производных предлог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3280" y="456840"/>
            <a:ext cx="8183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Е или И? Кто быстрее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838080" y="274284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1.В течени… дня заросли неузнаваемо изменились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2.Ошибки допущены вследстви… невнимательност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3. В продолжени… романа появятся новые геро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4. Мели постоянно попадались в течени… рек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5. Шорох и шёпот слышались в продолжени… час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4"/>
          <p:cNvSpPr/>
          <p:nvPr/>
        </p:nvSpPr>
        <p:spPr>
          <a:xfrm flipH="1">
            <a:off x="1175760" y="7010280"/>
            <a:ext cx="18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ш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143000" y="129528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пишите на листке рядом с номером предложения вставленную букву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 или 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верьте себ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752480" y="2361960"/>
            <a:ext cx="3810240" cy="3724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1.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2.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3.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4.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5.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56840"/>
            <a:ext cx="8183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Вставьте буквы, выпишите их, прочитайте получившееся слово.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03280" y="1295280"/>
            <a:ext cx="3687840" cy="457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штем…ел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тт…ста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негре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…ика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…лон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ес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…ссажи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…то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…нвер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наря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о…ьб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о…з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53316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амостоятельная рабо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990720" y="274320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игаться (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в)перед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лонны, обойти (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во)кру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амятника, спешить (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на)встреч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асности, пройти (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по)зад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оящего трамвая,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в) теч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а, (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не)смотря 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асность, перевести деньги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на)счё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банке, поговорить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на)счё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кзаменов; (не) смотря на доску, решил задачу;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в) связ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переездом,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в)следств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погоды,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в) продолж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а,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на)подоб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цве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верьте себ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503280" y="1600200"/>
            <a:ext cx="8183520" cy="4648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вигаться </a:t>
            </a: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вперед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олонны, обойти </a:t>
            </a: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вокруг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амятника, спешить </a:t>
            </a: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навстречу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асности, пройти </a:t>
            </a: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позад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тоящего трамвая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в течен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года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есмотря н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пасность, перевести деньги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а счёт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 банке, поговорить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асчёт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кзаменов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Verdana"/>
              </a:rPr>
              <a:t>   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е смотря н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оску, решил задачу;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в связи с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ереездом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вследств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епогоды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в продолжен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года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аподоб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цвет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7"/>
          <p:cNvSpPr/>
          <p:nvPr/>
        </p:nvSpPr>
        <p:spPr>
          <a:xfrm>
            <a:off x="3124080" y="2666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1371600" y="954000"/>
            <a:ext cx="65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торим правописание нареч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кройте скобки, вставьте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914400" y="2325600"/>
            <a:ext cx="7924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а)век, (на)отмаш…, точь(в)точь, бок(о)бок, (в)ручную, (по)ребячески, (во)первых, (по)нашему, (ото)всюду,  (не)жданно, (не)однократно, (не)правдиво, а лжив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чуть (не)интересно, снов…, досрочн…, навзнич…, замуж…, (мало)помалу. (еле)еле, (не)хорош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верим себ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03280" y="1828440"/>
            <a:ext cx="8183520" cy="3962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век, наотмашь, точь - в -точь, бок о бок, вручную, по-ребячески, во-первых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-нашему, отовсюду,  нежданно, неоднократно, не правдиво, а лживо,  ничуть не интересно, снова, досрочно, навзничь, замуж, мало-помалу,  еле -еле, нехорош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Organization Chart 7"/>
          <p:cNvGrpSpPr/>
          <p:nvPr/>
        </p:nvGrpSpPr>
        <p:grpSpPr>
          <a:xfrm>
            <a:off x="755640" y="549360"/>
            <a:ext cx="7776000" cy="5902920"/>
            <a:chOff x="755640" y="549360"/>
            <a:chExt cx="7776000" cy="5902920"/>
          </a:xfrm>
        </p:grpSpPr>
        <p:cxnSp>
          <p:nvCxnSpPr>
            <p:cNvPr id="273" name="_s1028"/>
            <p:cNvCxnSpPr>
              <a:stCxn id="274" idx="0"/>
              <a:endCxn id="275" idx="2"/>
            </p:cNvCxnSpPr>
            <p:nvPr/>
          </p:nvCxnSpPr>
          <p:spPr>
            <a:xfrm flipV="1">
              <a:off x="6865200" y="4237920"/>
              <a:ext cx="3960" cy="73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6" name="_s1029"/>
            <p:cNvCxnSpPr>
              <a:stCxn id="277" idx="0"/>
              <a:endCxn id="278" idx="2"/>
            </p:cNvCxnSpPr>
            <p:nvPr/>
          </p:nvCxnSpPr>
          <p:spPr>
            <a:xfrm flipV="1">
              <a:off x="2421360" y="4237920"/>
              <a:ext cx="3960" cy="73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1030"/>
            <p:cNvCxnSpPr>
              <a:stCxn id="275" idx="1"/>
              <a:endCxn id="280" idx="2"/>
            </p:cNvCxnSpPr>
            <p:nvPr/>
          </p:nvCxnSpPr>
          <p:spPr>
            <a:xfrm rot="10800000">
              <a:off x="4642920" y="2024280"/>
              <a:ext cx="555840" cy="147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1" name="_s1031"/>
            <p:cNvCxnSpPr>
              <a:stCxn id="278" idx="3"/>
              <a:endCxn id="280" idx="2"/>
            </p:cNvCxnSpPr>
            <p:nvPr/>
          </p:nvCxnSpPr>
          <p:spPr>
            <a:xfrm flipV="1">
              <a:off x="4088160" y="2024280"/>
              <a:ext cx="555840" cy="147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0" name="_s1032"/>
            <p:cNvSpPr/>
            <p:nvPr/>
          </p:nvSpPr>
          <p:spPr>
            <a:xfrm>
              <a:off x="2977200" y="54936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8000"/>
                  </a:solidFill>
                  <a:latin typeface="Arial"/>
                </a:rPr>
                <a:t>По происхождению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8000"/>
                  </a:solidFill>
                  <a:latin typeface="Arial"/>
                </a:rPr>
                <a:t>предлоги бывают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1033"/>
            <p:cNvSpPr/>
            <p:nvPr/>
          </p:nvSpPr>
          <p:spPr>
            <a:xfrm>
              <a:off x="755640" y="276300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d09de7"/>
            </a:solidFill>
            <a:ln w="9360">
              <a:solidFill>
                <a:srgbClr val="3232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cc"/>
                  </a:solidFill>
                  <a:latin typeface="Arial"/>
                </a:rPr>
                <a:t>непроизводные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1034"/>
            <p:cNvSpPr/>
            <p:nvPr/>
          </p:nvSpPr>
          <p:spPr>
            <a:xfrm>
              <a:off x="5199120" y="276300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cc"/>
                  </a:solidFill>
                  <a:latin typeface="Arial"/>
                </a:rPr>
                <a:t>производные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_s1035"/>
            <p:cNvSpPr/>
            <p:nvPr/>
          </p:nvSpPr>
          <p:spPr>
            <a:xfrm>
              <a:off x="755640" y="497664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d09de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В, на, за, из-за,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из-под, по-над,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из, под, у, от и т.д.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_s1036"/>
            <p:cNvSpPr/>
            <p:nvPr/>
          </p:nvSpPr>
          <p:spPr>
            <a:xfrm>
              <a:off x="5199120" y="497664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000000"/>
                  </a:solidFill>
                  <a:latin typeface="Arial"/>
                </a:rPr>
                <a:t>Ввиду, вследствие,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000000"/>
                  </a:solidFill>
                  <a:latin typeface="Arial"/>
                </a:rPr>
                <a:t>навстречу,вроде,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000000"/>
                  </a:solidFill>
                  <a:latin typeface="Arial"/>
                </a:rPr>
                <a:t>несмотря на и т.д.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3280" y="456840"/>
            <a:ext cx="8183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Правописание производных предлогов.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4" name=""/>
          <p:cNvGraphicFramePr/>
          <p:nvPr/>
        </p:nvGraphicFramePr>
        <p:xfrm>
          <a:off x="990720" y="1295280"/>
          <a:ext cx="7619760" cy="4259520"/>
        </p:xfrm>
        <a:graphic>
          <a:graphicData uri="http://schemas.openxmlformats.org/drawingml/2006/table">
            <a:tbl>
              <a:tblPr/>
              <a:tblGrid>
                <a:gridCol w="3809880"/>
                <a:gridCol w="3809880"/>
              </a:tblGrid>
              <a:tr h="78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Слит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Раздель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следствие(=по причине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роде         (=подобно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Наподобие (=подобно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место(=з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Насчет(=о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виду(=из-з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Несмотря на(=вопрек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 течение               (=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 продол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 целях (=дл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Со стороны  (=о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По причине   (=дл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 заключение(=в итог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6"/>
          <p:cNvSpPr/>
          <p:nvPr/>
        </p:nvSpPr>
        <p:spPr>
          <a:xfrm>
            <a:off x="2514600" y="53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Вспомни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143000" y="1295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благода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838080" y="21337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… </a:t>
            </a: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хорошей пог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… </a:t>
            </a: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спортивным успех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победил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выиграл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4724280" y="13716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вследствие, из-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5105520" y="5029200"/>
            <a:ext cx="304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4724280" y="22860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… </a:t>
            </a: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плохой пог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… </a:t>
            </a: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спортивных неу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потерпел поражение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проиграл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                  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Различайте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0" y="1219320"/>
          <a:ext cx="9144000" cy="56386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лог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части реч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ься в течение г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ться вследствие непог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хать в продолжение ча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ворить насчет пох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йти вместо др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успеть ввиду опоз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делать, несмотря на труд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ороты в течении ре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ледствии по делу о краж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тайте в продолжении ром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вести на счет в бан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петь в место сбора отряд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йте это в вид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смотря на прохож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Е или И? Если вставили Е, выпишите первое слово из предложения, если И- второе. Прочитайте получившееся предложение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762120" y="1981080"/>
            <a:ext cx="8153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м нужно идти в течени… целого д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довороты следует искать в течени… ре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удно отыскать ошибки в следстви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ртовый флажок отяжелел вследстви… дожд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ифр меняют в продолжени… ча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верьте себ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503280" y="2514240"/>
            <a:ext cx="8183520" cy="2203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 вас должно получиться предложени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50021"/>
                </a:solidFill>
                <a:latin typeface="Verdana"/>
              </a:rPr>
              <a:t>       </a:t>
            </a:r>
            <a:r>
              <a:rPr b="0" lang="ru-RU" sz="4000" spc="-1" strike="noStrike">
                <a:solidFill>
                  <a:srgbClr val="a50021"/>
                </a:solidFill>
                <a:latin typeface="Verdana"/>
              </a:rPr>
              <a:t>Вам следует отыскать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Verdana"/>
              </a:rPr>
              <a:t>         </a:t>
            </a:r>
            <a:r>
              <a:rPr b="0" lang="ru-RU" sz="4000" spc="-1" strike="noStrike">
                <a:solidFill>
                  <a:srgbClr val="a50021"/>
                </a:solidFill>
                <a:latin typeface="Verdana"/>
              </a:rPr>
              <a:t>стартовый шифр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7</cp:lastModifiedBy>
  <dcterms:modified xsi:type="dcterms:W3CDTF">2013-05-07T02:24:36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